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CC7-446D-4663-8073-42F65E05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07E-6940-438E-AD2E-5AE5E3A1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615-A01D-4536-A920-E4036236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D47-0D58-4F13-82D6-1FABABF2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95D6-7191-4687-999E-4CD8DA93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B1E0-1707-4FF6-A6C4-A64431D3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CD25-D3CC-470A-9ABE-902819B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C1F4-2DF0-40C3-8A84-D70B8927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8253-73F9-4FDC-AAD0-E269A39F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360A-E4BC-4D8B-B6FD-0E8605C2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973C-D1DD-4A19-8314-EAB6EBF1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C00-E6C2-4619-8B47-E016906A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4463-6DC1-45BC-A580-A190D71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7E19-30F3-4AB9-B34F-FCB7AE46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C99A-9204-47CE-A381-816646BF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1830-9209-4DE6-9AA6-1E179C7B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2200-C077-4BB0-994A-78307D4D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D29-F65B-4D76-AE79-D9B1D04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51E-CF68-4168-9D83-18C7ED2D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04A-37D1-4890-B5D8-2E316485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E03-A9F3-4ED4-8615-BD6B5AE8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525-DD34-4419-ADAC-9BDB9EE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D34-0D01-4C67-8155-93F9E2DA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4B3-BCA2-4561-9EBA-5BFA8432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BEE-4521-4C03-ADAB-642927787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BE34-D5BD-40FE-8819-762778D43B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arlotte Danielson</a:t>
            </a:r>
            <a:r>
              <a:rPr b="0" lang="ja-JP" sz="28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Four Domains of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aching Responsibility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840"/>
            <a:ext cx="888516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nning and Prepar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7680" y="1828440"/>
            <a:ext cx="8896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a: Demonstrating Knowledge of Content and Pedag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b: Demonstrating Knowledge of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c: Selecting Instructional Goal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d: Demonstrating Knowledge of Resourc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e: Designing Coherent Instruc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317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f: Assessing Student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Classroom Environ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057400"/>
            <a:ext cx="8896320" cy="41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a: Creating an Environment of Respect and Rappor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b: Establishing a Culture for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c: Managing Classroom Procedur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d: Managing Student Behavi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50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2e: Organizing Physical Spa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stru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1981080"/>
            <a:ext cx="889632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a: Communicating Clearly and Accurate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b: Using Questioning and Discussion Techniqu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c: Engaging Students in Learn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d: Providing Feedback to Stud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11636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e: Demonstrating Flexibility and Responsiven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rofessional Responsibili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680" y="2133720"/>
            <a:ext cx="8896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a: Reflecting on Teach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b: Maintaining Accurate Record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c: Communicating with Famil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d: Contributing to the School and Distric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e: Growing and Developing Professionall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1092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4f: Showing Professionalis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2:57:56Z</dcterms:created>
  <dc:creator>Registered User</dc:creator>
  <dc:description/>
  <dc:language>en-US</dc:language>
  <cp:lastModifiedBy>Karen Verkler</cp:lastModifiedBy>
  <dcterms:modified xsi:type="dcterms:W3CDTF">2015-04-17T09:31:35Z</dcterms:modified>
  <cp:revision>3</cp:revision>
  <dc:subject/>
  <dc:title>The Four Domains of  Teaching Responsibility</dc:title>
</cp:coreProperties>
</file>